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730-3ADA-4D11-AC06-61C37F20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916-C21E-4B70-BAEF-784F4E33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44F-D899-4BBB-9FBA-A01B5E42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575-74CB-4C6F-82EE-EE679E91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E70-49CB-4D38-8180-108DA5E6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3F0-5402-49E8-BA43-D7FCEB9C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7ED5-C36F-4720-A77D-486D2E65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262C-68F7-42FC-953E-9D0886AE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50E8-1F94-408D-A31D-4041A12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D990-14D9-4E01-BA74-8D7A5577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1FED-5733-42A0-88D8-27FFD15B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A03-D5E8-483E-BF73-41CC99F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15B1-0D63-4F51-923D-32E259C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99F1-7F22-40A7-95C7-CF7F506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1456-E33A-4E8B-B442-EFA0643F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9883-E0F7-4DE3-BB29-A362867C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0C5E-DCF6-41E5-A26A-65A886F3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F5BE-5BB6-405C-9A98-73954D0F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66F2-32E9-4754-913A-B7676F9F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8AD0-3093-41CF-8F94-07474E9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1406-8197-453C-8FCF-864F19C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212B-9BA2-4862-9E0E-B9710A2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265-6F03-4ECC-8E23-400E3ED9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A0BA-08B7-4FE5-A775-6D5F9CAD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F67E-9537-4185-9F04-D09D2BD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A1A6-7DBC-4297-9B8C-B0AB23CE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C421-AB92-485E-8FEC-5E5003B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B71F-0F6E-4F24-BB7B-6FD5B7F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DD1E-13EB-4A0C-B25A-0BAC04A3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2FA7-A21D-4A9C-876F-37C86736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7038-7EAB-49D4-B74E-FF3F8AE8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FF741-D410-47A4-A69A-E67A55D2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AD9A-F39B-4375-BCAE-AF92F3C4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631-9B72-41DD-AFF7-4BD077E4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424C-788E-4AE9-89E6-291992A4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C536-C872-4E9E-AA0F-5D9C815E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069B-DB49-4156-AA95-E5EE34B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95C6-65E1-462E-A8E3-C640F14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3300-D6C0-44F3-B9B4-7D0489D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E053-4AC9-47D5-8B3C-DCD034E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ABB6-CF4F-4DF7-A99A-9D76389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1E2B-1EF0-4FCC-98AF-E014D81A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4A62-BAFC-44B0-8ACE-057350CB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570-2CC9-4F73-BC6E-3EF978B3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8E9-A494-48AC-8CF2-6707FA12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C20-6ACD-4EB1-997A-F917BC6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6DA-B9EF-48C0-81F3-6214E42D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E33-72C8-4313-B08A-8454E6D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C138-9176-4101-8B9A-AD67AFF516E4}" type="slidenum"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7D8-D6E5-4206-A7A2-827C3A36C3AB}" type="slidenum"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A4C-B2D3-422A-B5C1-79EC925D6DF5}" type="slidenum"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手繪多邊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手繪多邊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7241-3E07-4882-B8D0-61945D07D1DF}" type="slidenum"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71320" y="3429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報告單位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警政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標題 1"/>
          <p:cNvSpPr/>
          <p:nvPr/>
        </p:nvSpPr>
        <p:spPr>
          <a:xfrm>
            <a:off x="1116000" y="162864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dbf5f9"/>
                </a:solidFill>
                <a:latin typeface="Calibri"/>
                <a:ea typeface="微軟正黑體"/>
              </a:rPr>
              <a:t>惡意程式偵查掃毒工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10920" y="620640"/>
            <a:ext cx="40323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4617b"/>
                </a:solidFill>
                <a:latin typeface="Calibri"/>
              </a:rPr>
              <a:t>惡意程式種類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反向連結木馬程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HTTP</a:t>
            </a: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後門程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鍵盤記憶程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特定檔案蒐集、打包程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USB</a:t>
            </a: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擺渡程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Root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4617b"/>
                </a:solidFill>
                <a:latin typeface="Calibri"/>
              </a:rPr>
              <a:t>惡意程式啟動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CurrentVersionRu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Service D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talled Compo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lternate Data Strea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inlog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UserI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Dri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4617b"/>
                </a:solidFill>
                <a:latin typeface="微軟正黑體"/>
              </a:rPr>
              <a:t>研製</a:t>
            </a:r>
            <a:r>
              <a:rPr b="1" lang="en-US" sz="4500" spc="-1" strike="noStrike">
                <a:solidFill>
                  <a:srgbClr val="04617b"/>
                </a:solidFill>
                <a:latin typeface="微軟正黑體"/>
              </a:rPr>
              <a:t>Panda_Fix</a:t>
            </a:r>
            <a:r>
              <a:rPr b="1" lang="zh-TW" sz="4500" spc="-1" strike="noStrike">
                <a:solidFill>
                  <a:srgbClr val="04617b"/>
                </a:solidFill>
                <a:latin typeface="微軟正黑體"/>
              </a:rPr>
              <a:t> </a:t>
            </a:r>
            <a:r>
              <a:rPr b="1" lang="zh-TW" sz="4500" spc="-1" strike="noStrike">
                <a:solidFill>
                  <a:srgbClr val="04617b"/>
                </a:solidFill>
                <a:latin typeface="微軟正黑體"/>
              </a:rPr>
              <a:t>掃、解毒工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採用行為比對，無須病毒碼之掃、解毒程式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由警政署資訊室自行研發，設計之惡意程式偵查工具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掃描系統所有啟動項目，偵測檔案是否為可疑程式，並</a:t>
            </a:r>
            <a:r>
              <a:rPr b="0" lang="zh-TW" sz="2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加強惡意程式辨識能力</a:t>
            </a: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能偵測出其他非上述所發現，但行為異常之可疑程式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作為現場惡意程式鑑識工具之一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能夠客制化不同介面與佈署方式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下載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http://134.208.18.96/Panda_Fix.z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4617b"/>
                </a:solidFill>
                <a:latin typeface="Calibri"/>
              </a:rPr>
              <a:t>實機測式皆可偵測出惡意程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K:\panda4.bmp"/>
          <p:cNvPicPr/>
          <p:nvPr/>
        </p:nvPicPr>
        <p:blipFill>
          <a:blip r:embed="rId2"/>
          <a:stretch/>
        </p:blipFill>
        <p:spPr>
          <a:xfrm>
            <a:off x="285840" y="1214280"/>
            <a:ext cx="8429400" cy="6323040"/>
          </a:xfrm>
          <a:prstGeom prst="rect">
            <a:avLst/>
          </a:prstGeom>
          <a:ln w="0">
            <a:noFill/>
          </a:ln>
        </p:spPr>
      </p:pic>
      <p:sp>
        <p:nvSpPr>
          <p:cNvPr id="206" name="圓角矩形 5"/>
          <p:cNvSpPr/>
          <p:nvPr/>
        </p:nvSpPr>
        <p:spPr>
          <a:xfrm>
            <a:off x="3714840" y="1285920"/>
            <a:ext cx="3571920" cy="5572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5572080"/>
              <a:gd name="textAreaBottom" fmla="*/ 5397840 h 5572080"/>
            </a:gdLst>
            <a:ahLst/>
            <a:rect l="textAreaLeft" t="textAreaTop" r="textAreaRight" b="textAreaBottom"/>
            <a:pathLst>
              <a:path w="21600" h="33694">
                <a:moveTo>
                  <a:pt x="3600" y="0"/>
                </a:moveTo>
                <a:arcTo wR="3600" hR="3600" stAng="16200000" swAng="-5400000"/>
                <a:lnTo>
                  <a:pt x="0" y="30094"/>
                </a:lnTo>
                <a:arcTo wR="3600" hR="3600" stAng="10800000" swAng="-5400000"/>
                <a:lnTo>
                  <a:pt x="18000" y="33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圓角矩形圖說文字 6"/>
          <p:cNvGrpSpPr/>
          <p:nvPr/>
        </p:nvGrpSpPr>
        <p:grpSpPr>
          <a:xfrm>
            <a:off x="712800" y="5535720"/>
            <a:ext cx="3200400" cy="1004760"/>
            <a:chOff x="712800" y="5535720"/>
            <a:chExt cx="3200400" cy="1004760"/>
          </a:xfrm>
        </p:grpSpPr>
        <p:pic>
          <p:nvPicPr>
            <p:cNvPr id="208" name="圓角矩形圖說文字 6" descr=""/>
            <p:cNvPicPr/>
            <p:nvPr/>
          </p:nvPicPr>
          <p:blipFill>
            <a:blip r:embed="rId3"/>
            <a:stretch/>
          </p:blipFill>
          <p:spPr>
            <a:xfrm>
              <a:off x="712800" y="5535720"/>
              <a:ext cx="3200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26920" y="5613480"/>
              <a:ext cx="2132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偵測出</a:t>
              </a:r>
              <a:r>
                <a:rPr b="1" lang="en-US" sz="2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36</a:t>
              </a:r>
              <a:r>
                <a:rPr b="1" lang="zh-TW" sz="2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隻病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圓角矩形圖說文字 7"/>
          <p:cNvGrpSpPr/>
          <p:nvPr/>
        </p:nvGrpSpPr>
        <p:grpSpPr>
          <a:xfrm>
            <a:off x="6497640" y="1889280"/>
            <a:ext cx="2360520" cy="1353960"/>
            <a:chOff x="6497640" y="1889280"/>
            <a:chExt cx="2360520" cy="1353960"/>
          </a:xfrm>
        </p:grpSpPr>
        <p:pic>
          <p:nvPicPr>
            <p:cNvPr id="211" name="圓角矩形圖說文字 7" descr=""/>
            <p:cNvPicPr/>
            <p:nvPr/>
          </p:nvPicPr>
          <p:blipFill>
            <a:blip r:embed="rId4"/>
            <a:stretch/>
          </p:blipFill>
          <p:spPr>
            <a:xfrm>
              <a:off x="6497640" y="1889280"/>
              <a:ext cx="236052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613560" y="1969920"/>
              <a:ext cx="2131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偵測率極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64396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4617b"/>
                </a:solidFill>
                <a:latin typeface="Calibri"/>
              </a:rPr>
              <a:t>移除頑固惡意程式，要求重新開機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K:\panda6.bmp"/>
          <p:cNvPicPr/>
          <p:nvPr/>
        </p:nvPicPr>
        <p:blipFill>
          <a:blip r:embed="rId2"/>
          <a:stretch/>
        </p:blipFill>
        <p:spPr>
          <a:xfrm>
            <a:off x="0" y="1428840"/>
            <a:ext cx="9858240" cy="73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4617b"/>
                </a:solidFill>
                <a:latin typeface="Calibri"/>
              </a:rPr>
              <a:t>重開機後再次掃描確認已完全清除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K:\panda7.bmp"/>
          <p:cNvPicPr/>
          <p:nvPr/>
        </p:nvPicPr>
        <p:blipFill>
          <a:blip r:embed="rId2"/>
          <a:stretch/>
        </p:blipFill>
        <p:spPr>
          <a:xfrm>
            <a:off x="214200" y="1214280"/>
            <a:ext cx="88585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43040" y="1785960"/>
            <a:ext cx="5572080" cy="30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4617b"/>
                </a:solidFill>
                <a:latin typeface="微軟正黑體"/>
              </a:rPr>
              <a:t>報告完畢</a:t>
            </a:r>
            <a:br>
              <a:rPr sz="6000"/>
            </a:br>
            <a:br>
              <a:rPr sz="6000"/>
            </a:br>
            <a:r>
              <a:rPr b="1" lang="zh-TW" sz="6000" spc="-1" strike="noStrike">
                <a:solidFill>
                  <a:srgbClr val="04617b"/>
                </a:solidFill>
                <a:latin typeface="微軟正黑體"/>
              </a:rPr>
              <a:t>恭請訓示 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-266760" y="-142920"/>
            <a:ext cx="426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D:\Slidework\Jobs\TechEd2007 - Brian Marble\Template\Design\Round 3\images\Hand.png"/>
          <p:cNvPicPr/>
          <p:nvPr/>
        </p:nvPicPr>
        <p:blipFill>
          <a:blip r:embed="rId2"/>
          <a:stretch/>
        </p:blipFill>
        <p:spPr>
          <a:xfrm>
            <a:off x="90360" y="14292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0:50:06Z</dcterms:created>
  <dc:creator>W3V</dc:creator>
  <dc:description/>
  <dc:language>en-US</dc:language>
  <cp:lastModifiedBy>0569_林依穎</cp:lastModifiedBy>
  <dcterms:modified xsi:type="dcterms:W3CDTF">2009-01-09T02:18:24Z</dcterms:modified>
  <cp:revision>16</cp:revision>
  <dc:subject/>
  <dc:title>投影片 1</dc:title>
</cp:coreProperties>
</file>